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2C0E-A6CC-4D68-AEE6-AD9FCB589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E4CE-B461-41E6-992B-0A3CC31B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 out Figure 3: Reading literacy proficiency levels (from p. 8 PISA 2009; Our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y learners at age 15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NZ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lacement at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ver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wide disp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green marker for NZ Pakeha/European students, the blue marker for Asian students, the red marker for Maori students and the yellow marker for Pasifika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1B04-A838-4F0F-9EA4-352AD45A1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39AA-9382-46A3-AE0E-C3E6D91D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achievement standard you have brought. Is it continuous or non-continuous tex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implications for subject specific litera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60C3-5E78-4F82-B2A7-563406A74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achievement standard require in these are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8BE8-DF00-45BE-BA17-11FB77FD9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achievement standard you have brought require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evaluat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What are the implic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8FB0-6899-407C-91D0-495958D84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indings align the questionnaire students completed with their sc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lining has been shown to be an unsuccessful strategy with low-achieving students (not PISA rese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ing what they read with others – very important. What opportunities do students get to do this in your learning are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16C-FFFA-4679-A8BB-CF1EC51E2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your achievement standard require summari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huge gap – more than a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AEC-F143-42C4-940B-43B29A844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learning (including literacy goals) clear to the stud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ategies are used to ensure students understand what they re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most important thing (e.g. 3, 2, 1 RI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help students look for clarifying information? (annotation strate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F459-0BC3-4D7C-B946-2DD7056DC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sty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 Meeting Notes (2/05/12 14:14) 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011F-B96C-4606-BF23-4CA64693E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37EB-5F88-426A-960F-78E1EEA55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79A9-E594-4095-BD02-0830C5FDA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43F7-D630-49E7-ADB0-4EE89B35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– 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going to give you 10 questions to establish your prior knowledge of PISA. When you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 finished, let me know and 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l give you the answers. Put a circle around any questions you want to discuss. You will not be asked at any stage to reveal how many questions you got r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orthland Secondary Literacy Clus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nior Literacy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dnesday 2 M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len Panayiod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.panayiodou@auckland.ac.n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does NZ</a:t>
            </a: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 performance look like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2708280"/>
          <a:ext cx="7772400" cy="28656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/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k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ECD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ori, Slovenia, Slovak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did PISA reading literacy test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ading tasks covered 3 dimens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 (the form of the reading materia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ntinuous texts, non-continuous texts, mixed texts and multiple tex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encies or aspects (types of reading tasks or pro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cess and retrieve, integrate and interpret, reflect and evalu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tuations or context (the use for which the text is construct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sonal, educational and occupational and public and scient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ings: Continuous vs non-continuous tex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Z students performed strongly on tasks related to non-continuous texts (lists, diagrams, graphs, tables) – 532 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s strong on continuous texts (sentences, paragraphs) – 518 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countries did not have more than a 10 point difference between continuous and non-continuous text sc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males out-performed males in both types but the gap was wider with continuous tex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ings: Access and retrieve, integrate and interpr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 students performed strongly in this are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countries outperformed N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 had a significant gap between males and females in this area (40 point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ings: reflect and evalu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 students performed very strongly in this are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Shanghai-China, Korea and Hong-Kong China outperformed N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 had one of the widest gaps between males and females in this area (50 point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udents</a:t>
            </a: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use of literacy strategi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who use appropriate strategies to understand and remember what they read performed 73 points higher than students who use strategies the least. Strategie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lining important parts in the tex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ing what they read with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marising inform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ap between students who know most about summarising and those who know the least is 107 poi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hieving student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gure out what they need to lea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sure they understand what they r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gure out concepts they have not fully gras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y and remember the most important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dditional clarifying information when they d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understand what they have r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’s wrong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re you going to use this group activity or game with this cla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 don’t think 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Why no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Games don’t seem to work with the class I have at the moment. They usually do, but not with this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at’s str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 know. I used to love these games when I was at school. I don’t know what’s wrong with th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69992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probably nothing wrong with Lisa’s class. It is likely that as a group they have a learning style that prefers different types of learning activities. They are making assumptions that becau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joy these activitie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udents will. Lisa should talk to her students directly and find out exactly what they like. A learning style quiz would help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11280" y="162864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2 truths and a lie on a piece of pap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 and disclose your l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195640" y="3141720"/>
            <a:ext cx="28638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8100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students have different learning styles. This affects the way they behave in the classroom and their response to different material and activities. Common learning styles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luency-foc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uracy foc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important to realise that each learning style is a continuum and all students will have a mixture of learning styles, however one will stand ou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907560"/>
            <a:ext cx="798984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Teachers face a broad diversity of learners in their classrooms. Students come into the classroom with a wide range of experiences and skill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eachers need 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cognise the unique talents and skills of each stu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spond to different learning sty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cknowledge cultural d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dapt instruction for students with special challe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125000"/>
            <a:ext cx="777240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dentify ways you can adapt your teaching to reach a broader range of learning styles among your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lan adjustments in your teaching to anticipate the needs of students with learning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dentify the hallmarks of culturally responsive teaching and how they can be appl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3" descr=""/>
          <p:cNvPicPr/>
          <p:nvPr/>
        </p:nvPicPr>
        <p:blipFill>
          <a:blip r:embed="rId1"/>
          <a:srcRect l="-5263" t="0" r="-5263" b="0"/>
          <a:stretch/>
        </p:blipFill>
        <p:spPr>
          <a:xfrm>
            <a:off x="755640" y="1557360"/>
            <a:ext cx="784872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3" descr=""/>
          <p:cNvPicPr/>
          <p:nvPr/>
        </p:nvPicPr>
        <p:blipFill>
          <a:blip r:embed="rId1"/>
          <a:srcRect l="-313" t="8742" r="2556" b="5192"/>
          <a:stretch/>
        </p:blipFill>
        <p:spPr>
          <a:xfrm>
            <a:off x="684360" y="765000"/>
            <a:ext cx="77724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dentify the needs of this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the programs/cour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strategies to support achievement and eng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raise knowledge around students with special n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2599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Outline of the d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9.00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Welcome/Housekee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55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Introduction to liter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55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PISA find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SWOT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Knowing the lear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10.30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Morning Tea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12.30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Lunch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Selection of stud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Strategies and appro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Surveys What nex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 model for teaching and learning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6" descr="Sideshow Clown 2"/>
          <p:cNvPicPr/>
          <p:nvPr/>
        </p:nvPicPr>
        <p:blipFill>
          <a:blip r:embed="rId1"/>
          <a:stretch/>
        </p:blipFill>
        <p:spPr>
          <a:xfrm>
            <a:off x="4067280" y="4005360"/>
            <a:ext cx="354960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ideshow Clown 2"/>
          <p:cNvPicPr/>
          <p:nvPr/>
        </p:nvPicPr>
        <p:blipFill>
          <a:blip r:embed="rId2"/>
          <a:srcRect l="16300" t="0" r="16300" b="0"/>
          <a:stretch/>
        </p:blipFill>
        <p:spPr>
          <a:xfrm>
            <a:off x="1403280" y="2637000"/>
            <a:ext cx="27957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py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교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문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그리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그들이하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짓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문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...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학생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결과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차이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수있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연습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가르치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교육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, 2003a, 8-9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페이지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Your role - How are your roles similar/different?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1280" y="1989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al and professional 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 in the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received from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first language with students/attit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listening/sp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reading/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tisfying/difficul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ggest 2 ways your role in the school could be strengthe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9640" y="1341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Teachers matter, and what they do matters….Teaching practice can make a major difference to student outc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BES Ministry of Education, 2003a, pages 8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ISA and its implications for subject specific literac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e/False 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22:24:58Z</dcterms:created>
  <dc:creator>Studio 4</dc:creator>
  <dc:description/>
  <dc:language>en-US</dc:language>
  <cp:lastModifiedBy>An Employee of</cp:lastModifiedBy>
  <cp:lastPrinted>2012-04-26T00:11:20Z</cp:lastPrinted>
  <dcterms:modified xsi:type="dcterms:W3CDTF">2012-05-08T22:39:40Z</dcterms:modified>
  <cp:revision>46</cp:revision>
  <dc:subject/>
  <dc:title>PowerPoint Presentation</dc:title>
</cp:coreProperties>
</file>